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2D8-474A-4E31-B05A-398316D9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3F8-9FE7-4393-9939-68738317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C87-4084-47AE-8693-00786C0F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8E78-8BA5-4A14-895E-18B8FCF4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D3E-C1A9-4C7E-A83F-C9A1F023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657-56A6-4CEF-9A60-3E127DAF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9EE-E587-4FD8-A38B-5249BF7C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6E6-148E-486C-BFE3-25F1A70D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05D-972E-45E2-BD9B-A0A361F1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8C4-5CC5-44CF-B6EB-4F9C998E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DA8-7229-457A-88BF-D1321B54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ED4-CBF1-479B-AD11-E3DBAA5D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9596-6E9B-422D-AF4B-5B9352283B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2205000"/>
            <a:ext cx="7201080" cy="2519280"/>
          </a:xfrm>
          <a:prstGeom prst="rect">
            <a:avLst/>
          </a:prstGeom>
          <a:solidFill>
            <a:srgbClr val="fee0a4"/>
          </a:solidFill>
          <a:ln w="50760">
            <a:solidFill>
              <a:srgbClr val="f79646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Gothic"/>
              </a:rPr>
              <a:t>Czy wiesz, że każdy ułamek zwykły można przedstawić w postaci sumy różnych ułamków o liczniku 1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-360" y="259920"/>
            <a:ext cx="86979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Każdy ułamek o liczniku 1 można  zapisać w postaci sumy dwóch różnych ułamków również o liczniku 1 stosując  pewien  prosty schemat. Przyjrzyj się poniższym przykładom. Wykonaj polece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i odpowiedz na pytania, a poznasz ten schem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2"/>
              <p:cNvSpPr txBox="1"/>
              <p:nvPr/>
            </p:nvSpPr>
            <p:spPr>
              <a:xfrm>
                <a:off x="684360" y="3716280"/>
                <a:ext cx="172692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3"/>
              <p:cNvSpPr txBox="1"/>
              <p:nvPr/>
            </p:nvSpPr>
            <p:spPr>
              <a:xfrm>
                <a:off x="3564000" y="3716280"/>
                <a:ext cx="191916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6443640" y="3716280"/>
                <a:ext cx="197496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360" y="260280"/>
            <a:ext cx="88930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W każdym przykładzie zwróć uwagę na mianownik pierwsze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i drugiego ułamka. Co zauważasz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Jaki dostrzegasz związek między mianownikami pierwsze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i drugiego ułamka a mianownikiem trzeciego ułamka w każdym przykładzi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900000" y="1484280"/>
                <a:ext cx="13654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3780000" y="1484280"/>
                <a:ext cx="15048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6659640" y="1484280"/>
                <a:ext cx="15843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Prostokąt 6"/>
          <p:cNvSpPr/>
          <p:nvPr/>
        </p:nvSpPr>
        <p:spPr>
          <a:xfrm>
            <a:off x="826920" y="1989000"/>
            <a:ext cx="1008360" cy="36036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rostokąt 7"/>
          <p:cNvSpPr/>
          <p:nvPr/>
        </p:nvSpPr>
        <p:spPr>
          <a:xfrm>
            <a:off x="3708360" y="1989000"/>
            <a:ext cx="1008000" cy="36036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rostokąt 8"/>
          <p:cNvSpPr/>
          <p:nvPr/>
        </p:nvSpPr>
        <p:spPr>
          <a:xfrm>
            <a:off x="6588000" y="1989000"/>
            <a:ext cx="1008360" cy="36036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5"/>
              <p:cNvSpPr txBox="1"/>
              <p:nvPr/>
            </p:nvSpPr>
            <p:spPr>
              <a:xfrm>
                <a:off x="1052640" y="5084640"/>
                <a:ext cx="13651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3932280" y="5084640"/>
                <a:ext cx="15048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7"/>
              <p:cNvSpPr txBox="1"/>
              <p:nvPr/>
            </p:nvSpPr>
            <p:spPr>
              <a:xfrm>
                <a:off x="6811920" y="5084640"/>
                <a:ext cx="15843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Prostokąt 12"/>
          <p:cNvSpPr/>
          <p:nvPr/>
        </p:nvSpPr>
        <p:spPr>
          <a:xfrm>
            <a:off x="979560" y="5589720"/>
            <a:ext cx="1008000" cy="36036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13"/>
          <p:cNvSpPr/>
          <p:nvPr/>
        </p:nvSpPr>
        <p:spPr>
          <a:xfrm>
            <a:off x="3860640" y="5589720"/>
            <a:ext cx="1008360" cy="36036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14"/>
          <p:cNvSpPr/>
          <p:nvPr/>
        </p:nvSpPr>
        <p:spPr>
          <a:xfrm>
            <a:off x="6740640" y="5589720"/>
            <a:ext cx="1008000" cy="36036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15"/>
          <p:cNvSpPr/>
          <p:nvPr/>
        </p:nvSpPr>
        <p:spPr>
          <a:xfrm>
            <a:off x="2050920" y="5589720"/>
            <a:ext cx="433440" cy="43164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2"/>
          <p:cNvSpPr/>
          <p:nvPr/>
        </p:nvSpPr>
        <p:spPr>
          <a:xfrm>
            <a:off x="7885080" y="5516640"/>
            <a:ext cx="503280" cy="5047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23"/>
          <p:cNvSpPr/>
          <p:nvPr/>
        </p:nvSpPr>
        <p:spPr>
          <a:xfrm>
            <a:off x="4932360" y="5516640"/>
            <a:ext cx="503280" cy="5047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8720" y="260280"/>
            <a:ext cx="86756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Zastosuj odkryty schemat  i zapisz w mianownikach ułamków odpowiednie licz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684360" y="1844640"/>
                <a:ext cx="14396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3780000" y="1844640"/>
                <a:ext cx="15127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6659640" y="1844640"/>
                <a:ext cx="14954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684360" y="3992400"/>
                <a:ext cx="143964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3780000" y="4005360"/>
                <a:ext cx="14522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7"/>
              <p:cNvSpPr txBox="1"/>
              <p:nvPr/>
            </p:nvSpPr>
            <p:spPr>
              <a:xfrm>
                <a:off x="6659640" y="4005360"/>
                <a:ext cx="1601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18900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Każdy ułamek o liczniku 1 można również przedstawić w postaci sumy trzech ułamków o liczniku 1. Przyjrzyj się poniższym przykładom i uzupełnij zda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W każdym przykładzie mianownik drugiego ułamka (licząc od lewej strony) jest 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……………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większy od mianownika pierwszego ułam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W każdym przykładzie mianownik trzeciego ułamka (licząc od lewej strony) jest 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…………….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większy od mianownika pierwszego ułam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684360" y="2205000"/>
                <a:ext cx="18446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3708360" y="2205000"/>
                <a:ext cx="17938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6443640" y="2205000"/>
                <a:ext cx="1970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Prostokąt zaokrąglony 9"/>
          <p:cNvSpPr/>
          <p:nvPr/>
        </p:nvSpPr>
        <p:spPr>
          <a:xfrm>
            <a:off x="2627280" y="3716280"/>
            <a:ext cx="136836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rostokąt zaokrąglony 10"/>
          <p:cNvSpPr/>
          <p:nvPr/>
        </p:nvSpPr>
        <p:spPr>
          <a:xfrm>
            <a:off x="2627280" y="5516640"/>
            <a:ext cx="136836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W każdym przykładzie mianownik czwartego ułamka (licząc od lewej strony) jest 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……………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większy od mianownika pierwszego ułam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Aby ułamek o liczniku 1 zapisać w postaci sumy trzech różnych ułamków również o liczniku 1 wystarcz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Zastosuj odkryty schemat i zapisz w mianownikach ułamków odpowiednie licz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rostokąt zaokrąglony 4"/>
          <p:cNvSpPr/>
          <p:nvPr/>
        </p:nvSpPr>
        <p:spPr>
          <a:xfrm>
            <a:off x="2627280" y="692280"/>
            <a:ext cx="1368360" cy="43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rostokąt zaokrąglony 5"/>
          <p:cNvSpPr/>
          <p:nvPr/>
        </p:nvSpPr>
        <p:spPr>
          <a:xfrm>
            <a:off x="468360" y="3213000"/>
            <a:ext cx="8207280" cy="72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539640" y="5445000"/>
                <a:ext cx="1702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2771640" y="5445000"/>
                <a:ext cx="1703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4932360" y="5445000"/>
                <a:ext cx="1701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5"/>
              <p:cNvSpPr txBox="1"/>
              <p:nvPr/>
            </p:nvSpPr>
            <p:spPr>
              <a:xfrm>
                <a:off x="7093080" y="5445000"/>
                <a:ext cx="16761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Wpisz do koła brakujący ułam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Wykres 3" descr=""/>
          <p:cNvPicPr/>
          <p:nvPr/>
        </p:nvPicPr>
        <p:blipFill>
          <a:blip r:embed="rId1"/>
          <a:stretch/>
        </p:blipFill>
        <p:spPr>
          <a:xfrm>
            <a:off x="1374840" y="1671480"/>
            <a:ext cx="6299280" cy="4267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Object 2"/>
              <p:cNvSpPr txBox="1"/>
              <p:nvPr/>
            </p:nvSpPr>
            <p:spPr>
              <a:xfrm>
                <a:off x="5292720" y="2708280"/>
                <a:ext cx="298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4932360" y="4437000"/>
                <a:ext cx="2937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3851280" y="2349360"/>
                <a:ext cx="3207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5"/>
              <p:cNvSpPr txBox="1"/>
              <p:nvPr/>
            </p:nvSpPr>
            <p:spPr>
              <a:xfrm>
                <a:off x="3059280" y="3284640"/>
                <a:ext cx="3204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pole tekstowe 8"/>
          <p:cNvSpPr/>
          <p:nvPr/>
        </p:nvSpPr>
        <p:spPr>
          <a:xfrm>
            <a:off x="3492360" y="4508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4T10:37:31Z</dcterms:created>
  <dc:creator>jg</dc:creator>
  <dc:description/>
  <dc:language>en-US</dc:language>
  <cp:lastModifiedBy>Rycho Rych</cp:lastModifiedBy>
  <dcterms:modified xsi:type="dcterms:W3CDTF">2013-08-28T22:57:32Z</dcterms:modified>
  <cp:revision>19</cp:revision>
  <dc:subject/>
  <dc:title>Slajd 1</dc:title>
</cp:coreProperties>
</file>